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EF6-1680-46F8-9987-B8D82173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7FD0-F065-40A6-B88F-75E823A2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A4C-5018-4E8D-8888-43C655D1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C0A-0E6D-4267-B6F3-E55521A3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221-FDDD-40D7-A81C-71E124F3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7EB-A351-4E69-B879-45D0B0C9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6F4C-3F2B-4827-9D3B-F6440AA9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5CE-DD45-4AAE-90EC-34892C31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050-F6A6-41D0-B883-47CB2BE9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EC65-5ABD-4DBB-AEAE-4FAEC79E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581-557E-46C8-9CB4-35E1980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ECC-CA9D-40E9-97EB-82969CD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054-AD0F-406F-B879-643844D5E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астер-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оты и кошки в пословицах, поговорках, фразеологизмах, примет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про\Documents\работа\документы\про кошек\untitled.png"/>
          <p:cNvPicPr/>
          <p:nvPr/>
        </p:nvPicPr>
        <p:blipFill>
          <a:blip r:embed="rId1"/>
          <a:stretch/>
        </p:blipFill>
        <p:spPr>
          <a:xfrm>
            <a:off x="6732720" y="2997360"/>
            <a:ext cx="1908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260280"/>
          <a:ext cx="7561440" cy="63165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меть пословицы, поговорки, приметы, фразеологизмы, крылатые выражения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34960" y="1447560"/>
            <a:ext cx="7499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ет кошка, чьё мясо съела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ольются кошке мышкины слёзки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темноте все кошки серы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сится как кошка с котятами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ёрного кота не вымоешь добела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брый привет и кошке люб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а убить – семь лет ни в чём удачи не видать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34960" y="260280"/>
            <a:ext cx="7499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лежит брюхом вверх – к теплу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но пташечка запела, как бы кошечка не съела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в печурку – стужа во двор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шка моется, лижет лапу – к вёдру, т.е. к хорошей погод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римет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т наплакал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кота мышам раздоль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пословиц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ать в кошки-мышк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пить кота в мешке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фразеологиз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Васька слушает, да ест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крылатое выра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особенности котов (кошек) проявляются в пословицах, поговорках, фразеологизмах, примета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про\Desktop\cat125.png"/>
          <p:cNvPicPr/>
          <p:nvPr/>
        </p:nvPicPr>
        <p:blipFill>
          <a:blip r:embed="rId1"/>
          <a:stretch/>
        </p:blipFill>
        <p:spPr>
          <a:xfrm>
            <a:off x="6372360" y="4657680"/>
            <a:ext cx="21700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58560" y="260280"/>
            <a:ext cx="4537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г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варств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бо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бовь к теплу, уют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вк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тр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зависим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про\Desktop\cat236.png"/>
          <p:cNvPicPr/>
          <p:nvPr/>
        </p:nvPicPr>
        <p:blipFill>
          <a:blip r:embed="rId1"/>
          <a:stretch/>
        </p:blipFill>
        <p:spPr>
          <a:xfrm>
            <a:off x="6732720" y="4076640"/>
            <a:ext cx="1985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5280" y="2133360"/>
            <a:ext cx="70992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нового я узнал(а) на урок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бы ещё хотел(а) узн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189000"/>
            <a:ext cx="749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Users\про\Desktop\котовасия\картинки2\lovelyanimals065.gif"/>
          <p:cNvPicPr/>
          <p:nvPr/>
        </p:nvPicPr>
        <p:blipFill>
          <a:blip r:embed="rId1"/>
          <a:stretch/>
        </p:blipFill>
        <p:spPr>
          <a:xfrm>
            <a:off x="4211640" y="5373720"/>
            <a:ext cx="1506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про\Desktop\котовасия\картинки2\mouse063.gif"/>
          <p:cNvPicPr/>
          <p:nvPr/>
        </p:nvPicPr>
        <p:blipFill>
          <a:blip r:embed="rId2"/>
          <a:stretch/>
        </p:blipFill>
        <p:spPr>
          <a:xfrm>
            <a:off x="1116000" y="3141720"/>
            <a:ext cx="625320" cy="82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про\Desktop\котовасия\картинки2\mouse063.gif"/>
          <p:cNvPicPr/>
          <p:nvPr/>
        </p:nvPicPr>
        <p:blipFill>
          <a:blip r:embed="rId3"/>
          <a:stretch/>
        </p:blipFill>
        <p:spPr>
          <a:xfrm>
            <a:off x="1116000" y="1989000"/>
            <a:ext cx="62532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34960" y="836280"/>
            <a:ext cx="46497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63498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catsrepublic.ru/kotote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71440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030a0"/>
                </a:solidFill>
                <a:latin typeface="Calibri"/>
              </a:rPr>
              <a:t>http://festival.1september.ru/articles/567706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ловицы, поговорки о котах и кошках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/mau.ru/read/word/russian.ph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ро\Desktop\про кошек\cat034.png"/>
          <p:cNvPicPr/>
          <p:nvPr/>
        </p:nvPicPr>
        <p:blipFill>
          <a:blip r:embed="rId1"/>
          <a:stretch/>
        </p:blipFill>
        <p:spPr>
          <a:xfrm>
            <a:off x="7380360" y="5013360"/>
            <a:ext cx="1428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про\Desktop\про кошек\85933704_www_webpark_ru__01_podborka_12.jpg"/>
          <p:cNvPicPr/>
          <p:nvPr/>
        </p:nvPicPr>
        <p:blipFill>
          <a:blip r:embed="rId1"/>
          <a:stretch/>
        </p:blipFill>
        <p:spPr>
          <a:xfrm>
            <a:off x="2268360" y="1484280"/>
            <a:ext cx="4375440" cy="3979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280" y="571464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чало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4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каких произведениях героем становится кот или кош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Users\про\Desktop\котовасия\картинки2\cat014.png"/>
          <p:cNvPicPr/>
          <p:nvPr/>
        </p:nvPicPr>
        <p:blipFill>
          <a:blip r:embed="rId1"/>
          <a:stretch/>
        </p:blipFill>
        <p:spPr>
          <a:xfrm>
            <a:off x="5508720" y="3470400"/>
            <a:ext cx="2538360" cy="189360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3"/>
          <p:cNvSpPr/>
          <p:nvPr/>
        </p:nvSpPr>
        <p:spPr>
          <a:xfrm>
            <a:off x="2050920" y="4149720"/>
            <a:ext cx="2665440" cy="1800360"/>
          </a:xfrm>
          <a:prstGeom prst="wedgeEllipseCallout">
            <a:avLst>
              <a:gd name="adj1" fmla="val 73185"/>
              <a:gd name="adj2" fmla="val -41435"/>
            </a:avLst>
          </a:prstGeom>
          <a:solidFill>
            <a:srgbClr val="d7e4bd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bbb59"/>
                </a:solidFill>
                <a:latin typeface="Calibri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:\Users\про\Desktop\литературные коты\default.jpeg"/>
          <p:cNvPicPr/>
          <p:nvPr/>
        </p:nvPicPr>
        <p:blipFill>
          <a:blip r:embed="rId1"/>
          <a:stretch/>
        </p:blipFill>
        <p:spPr>
          <a:xfrm>
            <a:off x="5219640" y="3314880"/>
            <a:ext cx="3137040" cy="295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2" descr="C:\Users\про\Desktop\литературные коты\515731_original.jpg"/>
          <p:cNvPicPr/>
          <p:nvPr/>
        </p:nvPicPr>
        <p:blipFill>
          <a:blip r:embed="rId2"/>
          <a:stretch/>
        </p:blipFill>
        <p:spPr>
          <a:xfrm>
            <a:off x="988920" y="404640"/>
            <a:ext cx="359892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4" descr="C:\Users\про\Desktop\литературные коты\0_98fa1_7a592caf_XXL.png"/>
          <p:cNvPicPr/>
          <p:nvPr/>
        </p:nvPicPr>
        <p:blipFill>
          <a:blip r:embed="rId3"/>
          <a:stretch/>
        </p:blipFill>
        <p:spPr>
          <a:xfrm>
            <a:off x="1692360" y="4149720"/>
            <a:ext cx="1807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C:\Users\про\Desktop\литературные коты\4.jpg"/>
          <p:cNvPicPr/>
          <p:nvPr/>
        </p:nvPicPr>
        <p:blipFill>
          <a:blip r:embed="rId1"/>
          <a:stretch/>
        </p:blipFill>
        <p:spPr>
          <a:xfrm>
            <a:off x="1981080" y="4221000"/>
            <a:ext cx="3121200" cy="21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Picture 7" descr="C:\Users\про\Desktop\литературные коты\628.jpg"/>
          <p:cNvPicPr/>
          <p:nvPr/>
        </p:nvPicPr>
        <p:blipFill>
          <a:blip r:embed="rId2"/>
          <a:stretch/>
        </p:blipFill>
        <p:spPr>
          <a:xfrm>
            <a:off x="1523880" y="836640"/>
            <a:ext cx="3313080" cy="2284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3" descr="C:\Users\про\Desktop\kot-bayun-2.jpg"/>
          <p:cNvPicPr/>
          <p:nvPr/>
        </p:nvPicPr>
        <p:blipFill>
          <a:blip r:embed="rId3"/>
          <a:stretch/>
        </p:blipFill>
        <p:spPr>
          <a:xfrm>
            <a:off x="6156360" y="2276640"/>
            <a:ext cx="2282760" cy="220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про\Desktop\koshkin_dom.jpg"/>
          <p:cNvPicPr/>
          <p:nvPr/>
        </p:nvPicPr>
        <p:blipFill>
          <a:blip r:embed="rId1"/>
          <a:stretch/>
        </p:blipFill>
        <p:spPr>
          <a:xfrm>
            <a:off x="1116000" y="189000"/>
            <a:ext cx="4032360" cy="300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5" descr="C:\Users\про\Desktop\литературные коты\1279730104_behemoth_by_trg_art.jpg"/>
          <p:cNvPicPr/>
          <p:nvPr/>
        </p:nvPicPr>
        <p:blipFill>
          <a:blip r:embed="rId2"/>
          <a:stretch/>
        </p:blipFill>
        <p:spPr>
          <a:xfrm>
            <a:off x="6589800" y="3359160"/>
            <a:ext cx="2341440" cy="33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i54.fastpic.ru/big/2013/0216/40/c3fd8ce10399e5b869fe6f651c892440.png"/>
          <p:cNvPicPr/>
          <p:nvPr/>
        </p:nvPicPr>
        <p:blipFill>
          <a:blip r:embed="rId3"/>
          <a:stretch/>
        </p:blipFill>
        <p:spPr>
          <a:xfrm>
            <a:off x="1187280" y="3645000"/>
            <a:ext cx="381348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6" descr="C:\Users\про\Desktop\cat124.png"/>
          <p:cNvPicPr/>
          <p:nvPr/>
        </p:nvPicPr>
        <p:blipFill>
          <a:blip r:embed="rId4"/>
          <a:stretch/>
        </p:blipFill>
        <p:spPr>
          <a:xfrm>
            <a:off x="6084720" y="0"/>
            <a:ext cx="25909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-360"/>
            <a:ext cx="7499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йди начало и конец фраз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692280"/>
          <a:ext cx="7440840" cy="6027480"/>
        </p:xfrm>
        <a:graphic>
          <a:graphicData uri="http://schemas.openxmlformats.org/drawingml/2006/table">
            <a:tbl>
              <a:tblPr/>
              <a:tblGrid>
                <a:gridCol w="3721320"/>
                <a:gridCol w="3719520"/>
              </a:tblGrid>
              <a:tr h="74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 …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4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0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434600" y="2349000"/>
            <a:ext cx="34974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187280" y="260280"/>
          <a:ext cx="7561440" cy="618192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ано пташечка запела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ам раздоль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в печурку  -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а ес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моется, лижет лапу  -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меш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кошки-мы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Без кота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тужа во дво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грать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бы кошечка не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5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упить кота …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пла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А Васька слушает,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вёдру,  т.е. хорошей погод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0"/>
            <a:ext cx="7499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87280" y="692280"/>
          <a:ext cx="7777440" cy="6207120"/>
        </p:xfrm>
        <a:graphic>
          <a:graphicData uri="http://schemas.openxmlformats.org/drawingml/2006/table">
            <a:tbl>
              <a:tblPr/>
              <a:tblGrid>
                <a:gridCol w="3889440"/>
                <a:gridCol w="3888000"/>
              </a:tblGrid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Знает кошк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ьё мясо съ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65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Отольются кош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ышкины слёз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77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 темн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все кошки сер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осит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ак кошка с котят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67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Черного кот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е вымоешь добе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брый при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и кошке лю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та убить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семь лет ни в чем удачи не вид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87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ошка лежит брюхом вверх -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к тепл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0:14:30Z</dcterms:created>
  <dc:creator>про</dc:creator>
  <dc:description/>
  <dc:language>en-US</dc:language>
  <cp:lastModifiedBy>pedagog</cp:lastModifiedBy>
  <dcterms:modified xsi:type="dcterms:W3CDTF">2014-05-22T07:32:53Z</dcterms:modified>
  <cp:revision>10</cp:revision>
  <dc:subject/>
  <dc:title>Начало проекта:</dc:title>
</cp:coreProperties>
</file>